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353289"/>
        <c:axId val="27516291"/>
      </c:barChart>
      <c:catAx>
        <c:axId val="453532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16291"/>
        <c:crosses val="autoZero"/>
        <c:auto val="1"/>
        <c:lblAlgn val="ctr"/>
        <c:lblOffset val="100"/>
        <c:noMultiLvlLbl val="0"/>
      </c:catAx>
      <c:valAx>
        <c:axId val="275162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532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403D-370D-4A3E-9D48-A5470E91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4E8-FFEA-4928-8E58-66DC3338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7486-D59C-4705-B0D2-0A0A8178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E34B-A037-429D-AAFB-15AB3230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3E88-BFB0-4B86-88A0-4751D6FA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96A7-DCC0-4F86-B449-896E4A4F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517C-B61E-4E44-A01E-2BACEC8E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AA0-64F1-47CB-8D5D-34591698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E97D-A95D-4742-BE0E-B41B46AF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2A8-E480-4C13-B6E2-12F29908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855C-FAD5-4367-AE9A-D5FAA6BF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AE8C-69E6-4072-AE90-BF7FD518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8595A-C02C-4B5F-87C4-2C59C0C21E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