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64090"/>
        <c:axId val="36457096"/>
      </c:barChart>
      <c:catAx>
        <c:axId val="77264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57096"/>
        <c:crosses val="autoZero"/>
        <c:auto val="1"/>
        <c:lblAlgn val="ctr"/>
        <c:lblOffset val="100"/>
        <c:noMultiLvlLbl val="0"/>
      </c:catAx>
      <c:valAx>
        <c:axId val="36457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64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9B3-3D89-4734-95F9-2FF52ED8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D42-7132-4C4F-89FD-3B25EC3F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9F9-8038-4761-85F4-AF7FC6EC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B539-5D91-48A9-B71A-B4429CAE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15E-6A27-4DFA-AD0C-D5841B5C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648-2B32-4345-A5EB-9CB63FB1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3DB-9E0D-4A71-B968-1CA9E84A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E74-F385-49A5-A492-AD8E90FB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CF7-6CF8-45BF-B1F8-2F0E3A7C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420-3252-4717-9869-05EE1BBD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22D-4789-4FD2-95CB-7E906C90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0EF-23BB-4E9E-8055-3C221B4D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77D1E-34AF-4079-BF2F-A3821F3510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