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09305"/>
        <c:axId val="94598943"/>
      </c:barChart>
      <c:catAx>
        <c:axId val="109093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98943"/>
        <c:crosses val="autoZero"/>
        <c:auto val="1"/>
        <c:lblAlgn val="ctr"/>
        <c:lblOffset val="100"/>
        <c:noMultiLvlLbl val="0"/>
      </c:catAx>
      <c:valAx>
        <c:axId val="94598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093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AB4-664E-41EA-A32C-84DED66A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9ED-0F87-4A68-843D-320A21C3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F5D-396D-4261-9060-BC838F4B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637-55A5-47DA-AA84-D2208643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86F-3096-4837-AB78-2B638692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A00-BEF7-4A5D-B2C0-8B5A365C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888-075A-4713-AD42-31AF07D1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3F9-93DA-4FEB-9CFA-F820863A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522-5E19-4754-9DB3-D0D2FC6E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16A-6DB0-4B65-BF3C-93129BB4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036-B486-4D09-A36C-8EE7B560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B41-6CD3-4D28-B700-A7E9B4CA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4E807-394F-4230-AF01-4B3A13EED9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