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52926"/>
        <c:axId val="77149261"/>
      </c:barChart>
      <c:catAx>
        <c:axId val="95952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49261"/>
        <c:crosses val="autoZero"/>
        <c:auto val="1"/>
        <c:lblAlgn val="ctr"/>
        <c:lblOffset val="100"/>
        <c:noMultiLvlLbl val="0"/>
      </c:catAx>
      <c:valAx>
        <c:axId val="77149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52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38C-B18E-4524-94A7-5CAFFE3E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1A0-88E6-493E-840C-87A486CE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F6C-CE4E-4309-BC70-6768A5E9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83A-6EC0-464C-8898-E73F6349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A70-3A95-4C8A-BC3B-2A07411B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406-C327-4B0D-BF0A-D318096C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09E-5B61-40CD-8C22-5177F828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E9C-E387-4011-B2BC-76E0B5A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5C8-6B67-4B29-950E-1728A73A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21D-5551-4E75-B6CB-C570EFC7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0E7-2A7D-4FFE-A382-A4036C9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472-CC0E-4460-A94F-233A7EB2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0A9F9-4824-46DF-9C16-5D3E93FF70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