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98954"/>
        <c:axId val="84703505"/>
      </c:barChart>
      <c:catAx>
        <c:axId val="70598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03505"/>
        <c:crosses val="autoZero"/>
        <c:auto val="1"/>
        <c:lblAlgn val="ctr"/>
        <c:lblOffset val="100"/>
        <c:noMultiLvlLbl val="0"/>
      </c:catAx>
      <c:valAx>
        <c:axId val="84703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98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FA8-8B87-4F3A-B92F-96A87E1D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AF0-E065-46E4-A220-F2A82282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CD2-839E-4E13-BDFF-E646ADD5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7C3-EFC4-4A27-BE63-A9815EB5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78DC-C64C-4566-A0B9-0EAFB245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EDC-DA08-4580-850E-9AFEF8AF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0E1-7B44-4A96-9F0F-744CF7BC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FC2-1BD9-4978-8A86-6839F321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5FAE-DEA1-41A8-9678-F9A46AD9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4FA-C8E9-431C-B506-18FEAB06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DE0-1FF6-4DD3-8255-9FFE6464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001C-013E-410F-BE98-C3686D7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3193D-3183-4411-865E-5EFF7921CF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