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07733"/>
        <c:axId val="63231855"/>
      </c:barChart>
      <c:catAx>
        <c:axId val="10307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31855"/>
        <c:crosses val="autoZero"/>
        <c:auto val="1"/>
        <c:lblAlgn val="ctr"/>
        <c:lblOffset val="100"/>
        <c:noMultiLvlLbl val="0"/>
      </c:catAx>
      <c:valAx>
        <c:axId val="63231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07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D94-27E1-4BD8-A8C3-E3748E21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821-E508-43EB-9955-9D54A6F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31-95F6-4291-933E-4763E589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897-7E01-4A53-B9EE-E3966AA7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FCE-C89A-4A71-A15B-A10D73E2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CF5-7EC3-455F-AB4C-4F491CB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33A-1CD8-47C6-97B4-127DFA1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B0C-5F27-42BA-91C1-25399C0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8CE-76F2-4A4A-9DD1-A2BA374F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EC3-1CA6-42D6-830C-C065D3B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76C-14B9-4576-9D8F-14C0A5A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6CC-4240-4BC4-8B8B-DB93B89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8603-1991-4636-A07A-7AED78F670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