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07972"/>
        <c:axId val="662876"/>
      </c:barChart>
      <c:catAx>
        <c:axId val="32607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876"/>
        <c:crosses val="autoZero"/>
        <c:auto val="1"/>
        <c:lblAlgn val="ctr"/>
        <c:lblOffset val="100"/>
        <c:noMultiLvlLbl val="0"/>
      </c:catAx>
      <c:valAx>
        <c:axId val="662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07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BF2-1088-488B-9564-8E83C6F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480-0A03-4BA2-97A6-B9D80E62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DBC-B7B7-4E61-9EC7-5FF68E7A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65B-403A-479C-B518-42B5CB0B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FEE-8622-4E87-B85A-6199322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0B8-3401-4E15-9B67-0ED06B5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584-D3B1-45DF-BF11-50846D5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A4-F22B-460B-9339-76F6BD9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882-CBA6-445D-B6EB-40509D9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C46-3533-44E4-A11A-D86836F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B61-4075-4BE4-8F59-D658A3E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A2B-F2BB-4A54-8614-DC82884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D7A91-6BAF-491F-8EB4-ED7E97191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