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94491"/>
        <c:axId val="83125815"/>
      </c:barChart>
      <c:catAx>
        <c:axId val="417944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25815"/>
        <c:crosses val="autoZero"/>
        <c:auto val="1"/>
        <c:lblAlgn val="ctr"/>
        <c:lblOffset val="100"/>
        <c:noMultiLvlLbl val="0"/>
      </c:catAx>
      <c:valAx>
        <c:axId val="83125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944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DF2-39A6-4291-921F-11706848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68F-EF42-46BB-989C-7A5DB2A0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2D3E-CF8E-4DAD-AF2E-F384175C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A4A-32CF-4BA6-8A32-D700073E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24E-4CC3-4DB9-B97D-D5AFF279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A72-5AAB-45BD-B0D8-D26A2C83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87B-F948-4DAF-A349-EDD6F48F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BAD-D68E-41CE-ABF0-02B28B62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69D-7A44-4FE2-AB7D-3963CB21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5EB-33D1-4B55-882A-A054448D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2CB-0573-4ABD-9963-E0E73B8F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9E8-469E-44A9-A668-41C6FA1B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D2492-A13C-4402-8948-3AEFB05613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