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65796"/>
        <c:axId val="45445914"/>
      </c:barChart>
      <c:catAx>
        <c:axId val="13765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45914"/>
        <c:crosses val="autoZero"/>
        <c:auto val="1"/>
        <c:lblAlgn val="ctr"/>
        <c:lblOffset val="100"/>
        <c:noMultiLvlLbl val="0"/>
      </c:catAx>
      <c:valAx>
        <c:axId val="45445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65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5AF-459E-4D8C-AB8B-D50999B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A6C-EF0E-4A7B-BBEE-EF6E6311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948-834D-4B27-9AB6-70DAF87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4A5-A5D9-4B3B-B6A1-FCC988D5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0AB-61EE-491E-BB11-CAC045F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EDF-BF95-4A1B-BDA3-D32C93B2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97F-956D-4CFA-BC6C-3BBA1D1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DD5-42A3-4687-834E-8300B71A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2E3-B54C-45D2-B4EB-12F33D1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3EA-A409-4AA4-9040-55F5039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4D7-F9AC-4369-A040-0B3BD4E3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D8B-2284-4A44-A881-5009D24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5A07D-9BA5-4317-A144-D65B5BE472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