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02883"/>
        <c:axId val="65903798"/>
      </c:barChart>
      <c:catAx>
        <c:axId val="31102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03798"/>
        <c:crosses val="autoZero"/>
        <c:auto val="1"/>
        <c:lblAlgn val="ctr"/>
        <c:lblOffset val="100"/>
        <c:noMultiLvlLbl val="0"/>
      </c:catAx>
      <c:valAx>
        <c:axId val="65903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02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F7C-4058-4B54-B31B-B23A266F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CEA-E2ED-4989-823C-C6E3317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CD0-A135-4920-801F-99C149E3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5C3-5F94-4EC8-9E8B-4ADEE6A2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F94-A21A-4FC8-B90E-40ECAA1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D98-71C6-4575-A83F-DB508ECF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8B6-7E3F-4156-BC91-4256DF3D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5D1-2A47-48F3-81FE-09C36311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961-1AE5-4E92-AEB1-B5BDF693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9D5-B736-4FC4-A7B5-F864FD9C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545-5246-4845-9529-241C5A6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EA9-D04B-4D00-BD0B-45145FD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26945-CE79-4F16-8D58-9A20CA907A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