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02566"/>
        <c:axId val="46223304"/>
      </c:barChart>
      <c:catAx>
        <c:axId val="82902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23304"/>
        <c:crosses val="autoZero"/>
        <c:auto val="1"/>
        <c:lblAlgn val="ctr"/>
        <c:lblOffset val="100"/>
        <c:noMultiLvlLbl val="0"/>
      </c:catAx>
      <c:valAx>
        <c:axId val="46223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02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BB0-3100-4428-93E9-4432C39D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7626-517E-49B7-BE9B-8BDFA3F4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DAF-9D33-47AA-9364-B8DD9338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E89-A375-4943-8595-D0765C42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3E7-D3A5-4608-9EDA-7374352C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F5DC-9150-420B-A6B9-3631E7D0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5A86-5AED-43C6-BE45-821DDBAB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07B-CF6F-4471-9BEE-A3952920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DB3-C8CD-4F02-87E3-1A0D83C7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A3E-5B42-4D7B-AEEE-225DFBD3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AA5A-54F1-419A-9FCD-99C39BF3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B13-18E1-4450-87F0-3D0B0786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2FFB5-96D8-4FB1-98AC-8A3406C042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