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9880402"/>
        <c:axId val="98236594"/>
      </c:barChart>
      <c:catAx>
        <c:axId val="3988040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236594"/>
        <c:crosses val="autoZero"/>
        <c:auto val="1"/>
        <c:lblAlgn val="ctr"/>
        <c:lblOffset val="100"/>
        <c:noMultiLvlLbl val="0"/>
      </c:catAx>
      <c:valAx>
        <c:axId val="9823659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88040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432D1-C993-43DA-BCD7-BAD673F13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0DF8B-8FA4-4152-B152-661D9DB54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0D686-E10D-4EDF-A8A8-0F2A664A7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32610-B7EA-4DFA-94D5-65C180201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1E32E-A05E-411E-A023-0EE46F43C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DF58A-4410-4ED0-8C0D-37EB10D8B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A947D-23FE-4C2C-8C9D-1CE3DF1EE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84B3E-25A7-45A7-99E1-845FF8BC9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3EF30-B1DE-42A9-BCFF-A600A5423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A91FF-51C1-4775-8FD5-6E046B21C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3AC3F-BA03-45E3-AC01-1202F8EA3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DCF74-8B8B-4B95-9DBA-84B9D2E39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01B0A1-50C2-410C-BB20-126B6163CFF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