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94957"/>
        <c:axId val="60028021"/>
      </c:barChart>
      <c:catAx>
        <c:axId val="784949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28021"/>
        <c:crosses val="autoZero"/>
        <c:auto val="1"/>
        <c:lblAlgn val="ctr"/>
        <c:lblOffset val="100"/>
        <c:noMultiLvlLbl val="0"/>
      </c:catAx>
      <c:valAx>
        <c:axId val="600280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949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EE0C-2F7E-4FB8-8AB5-079832BB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C9B7-3E67-4BF7-80FE-87109C83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1A06-BE07-4712-B45F-DF5339BA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4C73-21EE-4FEA-8D39-B0B02E72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0454-6C5E-4728-B43A-D42DDB83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B2C4-F029-46F1-9172-400312AF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8131-A45B-49CB-8E2A-8E71EDAF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8602-663B-48D5-B14A-3DCFCAAA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5C87-A37C-49E0-A391-0E0C8122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4875-F5B0-41B1-ADBD-7719FBEB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9525-A3AD-4051-935B-BB5A7E04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A4D0-7CEA-464E-B225-DC9A4617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E1681-4E8D-4D06-A342-B293572E9B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